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A4E-9F93-41D3-9AF7-AF4E4A0D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791-CCA2-4FF2-88EF-BA8937C7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3E3-546E-4D9B-9041-6913BFBD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208-9701-4E86-BFBE-B2DAC179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48B-A410-4F12-86FB-60DF2D1B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DA1-77E8-4A5C-9D10-C5360DB0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373-3283-43B0-8F08-6872B1D1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EDC-349E-4FE1-8263-1B01DF5A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76E-4174-465D-A1B1-8F5B62F5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E10-EA81-4BA4-9F9A-58420E9C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A0E-42F4-4C6A-B34A-4DA0A3B4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298-1FD8-4FFB-B586-C5A08ADA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B813-E828-4BE7-AEC2-AF122369D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2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47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48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8957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507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9:25:31Z</dcterms:created>
  <dc:creator>netadmin8</dc:creator>
  <dc:description/>
  <dc:language>en-US</dc:language>
  <cp:lastModifiedBy>netadmin8</cp:lastModifiedBy>
  <dcterms:modified xsi:type="dcterms:W3CDTF">2013-10-10T15:51:26Z</dcterms:modified>
  <cp:revision>5</cp:revision>
  <dc:subject/>
  <dc:title>River</dc:title>
</cp:coreProperties>
</file>